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4D7-31D0-4145-9351-2DB52223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A51-30CB-4932-9EB0-CC6D473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77B-5C25-4531-B817-B5AE5A4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F04-457F-4EA7-A18D-C1EA4F28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3980-C444-4925-8879-422DBA56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33E-3625-40B7-81F5-182289C2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425-27D1-49D6-BC8C-602589B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B70-4354-489E-9078-AFCF721F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5E1F-FA66-4E1D-A55D-DBF3DA6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389-98A1-464D-9E1B-6930849C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2B4-B777-404C-B722-617685B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57A-5E30-48A6-B0FC-5A0A33DA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7A17-187F-4C69-A781-3BC533F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81FD-C378-47B6-B182-E4007E7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085-1778-43B6-9CED-EC01A9D2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C8EA-3318-4493-8E10-72D30121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DDE4-0A3D-48F0-962C-EEE9AC68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7B7A-ACF7-4713-93F9-3C93C9E8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434A-FEE5-4010-937E-27979DE3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1A07-DEB3-4F15-B6A2-7BC1753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8112-63A1-41CF-B439-214F8161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7974-8411-40AA-9587-2D4D09F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25B-A797-4298-B173-835CC755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ED9C-862D-497E-9051-B0C7619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78E0-3025-45DF-8BDC-5826BB3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930C-7CBD-4C41-9FC5-F9F4625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B47E-0FCD-4460-A45E-B29AA0A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B55B-3381-4877-8465-4FE9989E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70D0-8EE1-42E8-8B55-00EE814A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8F3D-9805-4CAE-A27C-D501181A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68D-3CEA-4D6A-B08C-A31B5CA3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E59-C068-4CE5-BD5A-0BB3C2C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F9C-E072-4E0C-9F9B-B5DF2F6A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B52-C1C5-4D4B-B671-6462041E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743-9680-4ED0-BC55-78CB373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C53-2631-4829-BA2F-B14B212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1BB1-06B0-443B-A5DE-48C2EF498792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986B-D5EF-4C76-8D97-08E48A4BA3A0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9888-56A1-49A8-8F22-7DE5791C44A6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EDB-86FF-41F1-A27E-1210D7E0A677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E98C-6438-4B12-98D9-F16CE5FF6D14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FB4-3B1C-4282-8693-5447F5607EEA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5129"/>
          <p:cNvSpPr/>
          <p:nvPr/>
        </p:nvSpPr>
        <p:spPr>
          <a:xfrm>
            <a:off x="1752480" y="1752480"/>
            <a:ext cx="59436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4  After-School Activitie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19 A Dinner Dat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4" name="图片 5132" descr="GFI264-Calendar"/>
          <p:cNvPicPr/>
          <p:nvPr/>
        </p:nvPicPr>
        <p:blipFill>
          <a:blip r:embed="rId1"/>
          <a:stretch/>
        </p:blipFill>
        <p:spPr>
          <a:xfrm>
            <a:off x="4343400" y="38862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6385"/>
          <p:cNvSpPr/>
          <p:nvPr/>
        </p:nvSpPr>
        <p:spPr>
          <a:xfrm>
            <a:off x="838080" y="68580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’m going to the countryside with my da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和我的爸爸去农村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文本框 16386"/>
          <p:cNvSpPr/>
          <p:nvPr/>
        </p:nvSpPr>
        <p:spPr>
          <a:xfrm>
            <a:off x="1219320" y="1828800"/>
            <a:ext cx="746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打算做某事，强调按计划、安排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l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也用于将来时，常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互换，但不强调计划、安排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re going to play volleyball this afternoo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下午我们打算去打排球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will he come back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什么时候回来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47105"/>
          <p:cNvSpPr/>
          <p:nvPr/>
        </p:nvSpPr>
        <p:spPr>
          <a:xfrm>
            <a:off x="762120" y="838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We’re both busy all week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两个一周都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文本框 47106"/>
          <p:cNvSpPr/>
          <p:nvPr/>
        </p:nvSpPr>
        <p:spPr>
          <a:xfrm>
            <a:off x="1066680" y="1905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两个都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三个及三个以上都，均用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词、情态动词后，实义动词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can both swim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两个都会游泳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l wee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一周。类似短语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l da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整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all morn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整个早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3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7893"/>
          <p:cNvSpPr/>
          <p:nvPr/>
        </p:nvSpPr>
        <p:spPr>
          <a:xfrm>
            <a:off x="1219320" y="1495440"/>
            <a:ext cx="70102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你想过来吃晚饭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you like ____ ______ ______ for dinner to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叔叔擅长下象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uncle is _____ _____ ______ ches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天去踢足球怎么样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_ _______ football tomorrow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文本框 37894"/>
          <p:cNvSpPr/>
          <p:nvPr/>
        </p:nvSpPr>
        <p:spPr>
          <a:xfrm>
            <a:off x="1601640" y="2590920"/>
            <a:ext cx="16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文本框 37899"/>
          <p:cNvSpPr/>
          <p:nvPr/>
        </p:nvSpPr>
        <p:spPr>
          <a:xfrm>
            <a:off x="3124080" y="3962520"/>
            <a:ext cx="12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文本框 37900"/>
          <p:cNvSpPr/>
          <p:nvPr/>
        </p:nvSpPr>
        <p:spPr>
          <a:xfrm>
            <a:off x="2438280" y="4952880"/>
            <a:ext cx="14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文本框 37901"/>
          <p:cNvSpPr/>
          <p:nvPr/>
        </p:nvSpPr>
        <p:spPr>
          <a:xfrm>
            <a:off x="3448080" y="49528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文本框 37907"/>
          <p:cNvSpPr/>
          <p:nvPr/>
        </p:nvSpPr>
        <p:spPr>
          <a:xfrm>
            <a:off x="4057560" y="25909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文本框 37908"/>
          <p:cNvSpPr/>
          <p:nvPr/>
        </p:nvSpPr>
        <p:spPr>
          <a:xfrm>
            <a:off x="4572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文本框 37909"/>
          <p:cNvSpPr/>
          <p:nvPr/>
        </p:nvSpPr>
        <p:spPr>
          <a:xfrm>
            <a:off x="56386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v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文本框 37910"/>
          <p:cNvSpPr/>
          <p:nvPr/>
        </p:nvSpPr>
        <p:spPr>
          <a:xfrm>
            <a:off x="4724280" y="396252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文本框 37911"/>
          <p:cNvSpPr/>
          <p:nvPr/>
        </p:nvSpPr>
        <p:spPr>
          <a:xfrm>
            <a:off x="4191120" y="396252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5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77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0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1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8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9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0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1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2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3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4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75" name="文本框 33897"/>
          <p:cNvSpPr/>
          <p:nvPr/>
        </p:nvSpPr>
        <p:spPr>
          <a:xfrm>
            <a:off x="914400" y="2851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星期放学后你打算做什么呢，请给自己列个计划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55303"/>
          <p:cNvSpPr/>
          <p:nvPr/>
        </p:nvSpPr>
        <p:spPr>
          <a:xfrm>
            <a:off x="685800" y="2362320"/>
            <a:ext cx="7924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Experience is the father of wisdom and memory the mother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验是智慧之父，记忆是智慧之母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7" name="图片 5530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5530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1447920" y="2930400"/>
            <a:ext cx="6321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like to do after school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ease tell something about i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200400" y="2057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8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6147"/>
          <p:cNvSpPr/>
          <p:nvPr/>
        </p:nvSpPr>
        <p:spPr>
          <a:xfrm>
            <a:off x="4191120" y="5486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lley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图片 6160" descr="u=1264609826,3141540236&amp;fm=23&amp;gp=0"/>
          <p:cNvPicPr/>
          <p:nvPr/>
        </p:nvPicPr>
        <p:blipFill>
          <a:blip r:embed="rId1"/>
          <a:srcRect l="0" t="0" r="0" b="1998"/>
          <a:stretch/>
        </p:blipFill>
        <p:spPr>
          <a:xfrm>
            <a:off x="2514600" y="182880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61"/>
          <p:cNvSpPr/>
          <p:nvPr/>
        </p:nvSpPr>
        <p:spPr>
          <a:xfrm>
            <a:off x="3429000" y="5456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45057"/>
          <p:cNvSpPr/>
          <p:nvPr/>
        </p:nvSpPr>
        <p:spPr>
          <a:xfrm>
            <a:off x="40384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文本框 45060"/>
          <p:cNvSpPr/>
          <p:nvPr/>
        </p:nvSpPr>
        <p:spPr>
          <a:xfrm>
            <a:off x="33526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5" name="图片 45061" descr="play chess"/>
          <p:cNvPicPr/>
          <p:nvPr/>
        </p:nvPicPr>
        <p:blipFill>
          <a:blip r:embed="rId1"/>
          <a:stretch/>
        </p:blipFill>
        <p:spPr>
          <a:xfrm>
            <a:off x="2209680" y="1303200"/>
            <a:ext cx="394992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56325" descr="Volunteer01"/>
          <p:cNvPicPr/>
          <p:nvPr/>
        </p:nvPicPr>
        <p:blipFill>
          <a:blip r:embed="rId1"/>
          <a:stretch/>
        </p:blipFill>
        <p:spPr>
          <a:xfrm>
            <a:off x="1600200" y="990720"/>
            <a:ext cx="6105600" cy="42307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56323"/>
          <p:cNvSpPr/>
          <p:nvPr/>
        </p:nvSpPr>
        <p:spPr>
          <a:xfrm>
            <a:off x="33526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lunte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57348" descr="bingo-card"/>
          <p:cNvPicPr/>
          <p:nvPr/>
        </p:nvPicPr>
        <p:blipFill>
          <a:blip r:embed="rId1"/>
          <a:stretch/>
        </p:blipFill>
        <p:spPr>
          <a:xfrm>
            <a:off x="2438280" y="838080"/>
            <a:ext cx="375156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7346"/>
          <p:cNvSpPr/>
          <p:nvPr/>
        </p:nvSpPr>
        <p:spPr>
          <a:xfrm>
            <a:off x="33526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ing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38920"/>
          <p:cNvSpPr/>
          <p:nvPr/>
        </p:nvSpPr>
        <p:spPr>
          <a:xfrm>
            <a:off x="1066680" y="2136600"/>
            <a:ext cx="72392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 Today is ________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 Jim is going to the ______ club on Wednesday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3) Jim is going to the ___________ with his dad this weekend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矩形 38917"/>
          <p:cNvSpPr/>
          <p:nvPr/>
        </p:nvSpPr>
        <p:spPr>
          <a:xfrm>
            <a:off x="2693880" y="2133720"/>
            <a:ext cx="19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矩形 38921"/>
          <p:cNvSpPr/>
          <p:nvPr/>
        </p:nvSpPr>
        <p:spPr>
          <a:xfrm>
            <a:off x="1066680" y="1066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.Listen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矩形 38922"/>
          <p:cNvSpPr/>
          <p:nvPr/>
        </p:nvSpPr>
        <p:spPr>
          <a:xfrm>
            <a:off x="4038480" y="312408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矩形 38923"/>
          <p:cNvSpPr/>
          <p:nvPr/>
        </p:nvSpPr>
        <p:spPr>
          <a:xfrm>
            <a:off x="3997440" y="4038480"/>
            <a:ext cx="26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untrys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4337"/>
          <p:cNvSpPr/>
          <p:nvPr/>
        </p:nvSpPr>
        <p:spPr>
          <a:xfrm>
            <a:off x="685800" y="457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2. What is Steven going to do? Read the lesson and write down his schedule for the wee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Picture 55" descr="04"/>
          <p:cNvPicPr/>
          <p:nvPr/>
        </p:nvPicPr>
        <p:blipFill>
          <a:blip r:embed="rId1"/>
          <a:stretch/>
        </p:blipFill>
        <p:spPr>
          <a:xfrm>
            <a:off x="1066680" y="5638680"/>
            <a:ext cx="721836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143000" y="1752480"/>
          <a:ext cx="7010280" cy="3505320"/>
        </p:xfrm>
        <a:graphic>
          <a:graphicData uri="http://schemas.openxmlformats.org/drawingml/2006/table">
            <a:tbl>
              <a:tblPr/>
              <a:tblGrid>
                <a:gridCol w="1828800"/>
                <a:gridCol w="5181480"/>
              </a:tblGrid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on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1368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1368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ues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ednes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urs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ri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1368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13680">
                      <a:solidFill>
                        <a:srgbClr val="99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矩形 14423"/>
          <p:cNvSpPr/>
          <p:nvPr/>
        </p:nvSpPr>
        <p:spPr>
          <a:xfrm>
            <a:off x="3276720" y="1905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has dinner with Ji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矩形 14424"/>
          <p:cNvSpPr/>
          <p:nvPr/>
        </p:nvSpPr>
        <p:spPr>
          <a:xfrm>
            <a:off x="3276720" y="259092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has volleyball practic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矩形 14425"/>
          <p:cNvSpPr/>
          <p:nvPr/>
        </p:nvSpPr>
        <p:spPr>
          <a:xfrm>
            <a:off x="3306600" y="3276720"/>
            <a:ext cx="17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is fre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矩形 14426"/>
          <p:cNvSpPr/>
          <p:nvPr/>
        </p:nvSpPr>
        <p:spPr>
          <a:xfrm>
            <a:off x="3276720" y="396252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volunteers at the Old Age Ho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矩形 14427"/>
          <p:cNvSpPr/>
          <p:nvPr/>
        </p:nvSpPr>
        <p:spPr>
          <a:xfrm>
            <a:off x="3276720" y="4724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has math class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5361"/>
          <p:cNvSpPr/>
          <p:nvPr/>
        </p:nvSpPr>
        <p:spPr>
          <a:xfrm>
            <a:off x="838080" y="2023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ay is it today?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星期几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文本框 15362"/>
          <p:cNvSpPr/>
          <p:nvPr/>
        </p:nvSpPr>
        <p:spPr>
          <a:xfrm>
            <a:off x="1066680" y="2670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询问星期几要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a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提问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询问日期要说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dat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询问几点要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time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time is i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6" name="图片 15370" descr="3"/>
          <p:cNvPicPr/>
          <p:nvPr/>
        </p:nvPicPr>
        <p:blipFill>
          <a:blip r:embed="rId1"/>
          <a:stretch/>
        </p:blipFill>
        <p:spPr>
          <a:xfrm>
            <a:off x="6705720" y="149076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5" descr="04"/>
          <p:cNvPicPr/>
          <p:nvPr/>
        </p:nvPicPr>
        <p:blipFill>
          <a:blip r:embed="rId2"/>
          <a:stretch/>
        </p:blipFill>
        <p:spPr>
          <a:xfrm>
            <a:off x="1087560" y="5486400"/>
            <a:ext cx="721836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47:00Z</dcterms:created>
  <dc:creator/>
  <dc:description/>
  <dc:language>en-US</dc:language>
  <cp:lastModifiedBy>Administrator</cp:lastModifiedBy>
  <dcterms:modified xsi:type="dcterms:W3CDTF">2019-01-02T00:49:13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